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B77-AE54-44EE-B0D8-A069B565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38E-F0E7-49A2-AE09-4F2B591F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CF0-8A8A-477F-ADB7-B6792A2F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D25-28B4-4926-8728-8B55930A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05E-5C00-4704-82D1-1CE7375B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FC5-2025-4EB1-9F94-22748FA5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D0A-CB5B-466D-925F-441B9384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AB2-872E-4FDC-AB16-B3CD64C4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4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2C0-5815-45E1-AF4E-765DE896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78C-FC84-4FF6-898A-A3622524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5EC-BB72-427A-8B8A-56339DA8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D31-B482-442F-B09D-BC7F5207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059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059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059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059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059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059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059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05120" y="6356520"/>
            <a:ext cx="17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13040" y="6356520"/>
            <a:ext cx="23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81840" y="6356520"/>
            <a:ext cx="17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419B3-E0BE-47DB-9BEB-EC0269F447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RibbonLarge.png"/>
          <p:cNvPicPr/>
          <p:nvPr/>
        </p:nvPicPr>
        <p:blipFill>
          <a:blip r:embed="rId2"/>
          <a:stretch/>
        </p:blipFill>
        <p:spPr>
          <a:xfrm>
            <a:off x="0" y="0"/>
            <a:ext cx="35244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COL_Logo_RGB.png"/>
          <p:cNvPicPr/>
          <p:nvPr/>
        </p:nvPicPr>
        <p:blipFill>
          <a:blip r:embed="rId3"/>
          <a:stretch/>
        </p:blipFill>
        <p:spPr>
          <a:xfrm>
            <a:off x="6702480" y="398520"/>
            <a:ext cx="222732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lity of Health Principles and Review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013 </a:t>
            </a:r>
            <a:endParaRPr b="0" lang="en-US" sz="3200" spc="-1" strike="noStrike">
              <a:solidFill>
                <a:srgbClr val="205964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05964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05964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05964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05964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205964"/>
                </a:solidFill>
                <a:latin typeface="Arial"/>
              </a:rPr>
              <a:t>LDPB (13) 09</a:t>
            </a: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85680" y="277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46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05964"/>
                </a:solidFill>
                <a:latin typeface="Arial"/>
              </a:rPr>
              <a:t>Changing Our Lives has been working with the Department of Health to include the Quality of Health Principles into mainstream NHS contracts by April 2013. 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05964"/>
                </a:solidFill>
                <a:latin typeface="Arial"/>
              </a:rPr>
              <a:t>This has been highlighted as a key action in the Department of Health’s Winterbourne review (Concordat Programme of Action, Dec 2012, p13). 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05964"/>
                </a:solidFill>
                <a:latin typeface="Arial"/>
              </a:rPr>
              <a:t>In practice this means that for the first time patients have been able to directly influence quality of care via a contractual route.</a:t>
            </a:r>
            <a:r>
              <a:rPr b="0" lang="en-GB" sz="1800" spc="-1" strike="noStrike">
                <a:solidFill>
                  <a:srgbClr val="20596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922320" y="2244600"/>
            <a:ext cx="3583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toolkit and pil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05964"/>
                </a:solidFill>
                <a:latin typeface="Arial"/>
              </a:rPr>
              <a:t>The Quality of Health toolkit will contain: 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05964"/>
                </a:solidFill>
                <a:latin typeface="Arial"/>
              </a:rPr>
              <a:t>a user led review model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05964"/>
                </a:solidFill>
                <a:latin typeface="Arial"/>
              </a:rPr>
              <a:t>training materials to facilitate the development of user led review teams across the country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05964"/>
                </a:solidFill>
                <a:latin typeface="Arial"/>
              </a:rPr>
              <a:t>best practice guidance on co-production in the review process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05964"/>
                </a:solidFill>
                <a:latin typeface="Arial"/>
              </a:rPr>
              <a:t>During the production of the toolkit we will pilot the review process in the four national NHS clusters. 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727200" y="1925640"/>
            <a:ext cx="375732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lity of Life Standar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05964"/>
                </a:solidFill>
                <a:latin typeface="Arial"/>
              </a:rPr>
              <a:t>We will produce one set of Quality of Life Standards. 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05964"/>
                </a:solidFill>
                <a:latin typeface="Arial"/>
              </a:rPr>
              <a:t>We will also produce a good practice guidance framework telling people how to: 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05964"/>
                </a:solidFill>
                <a:latin typeface="Arial"/>
              </a:rPr>
              <a:t>Embed the Standards in local contracts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05964"/>
                </a:solidFill>
                <a:latin typeface="Arial"/>
              </a:rPr>
              <a:t>Develop audit teams 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05964"/>
                </a:solidFill>
                <a:latin typeface="Arial"/>
              </a:rPr>
              <a:t>Partner these audit teams to contracts and monitoring functions of local authorities. </a:t>
            </a: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773280" y="1711440"/>
            <a:ext cx="375732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205964"/>
                </a:solidFill>
                <a:latin typeface="Arial"/>
              </a:rPr>
              <a:t>Quality of Health reviews are a person centred way of checking the quality of a service from a patient perspective.  </a:t>
            </a:r>
            <a:endParaRPr b="0" lang="en-US" sz="22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205964"/>
                </a:solidFill>
                <a:latin typeface="Arial"/>
              </a:rPr>
              <a:t>Each review is led by people with disabilities, supported by a Changing Our Lives Development Officer. </a:t>
            </a:r>
            <a:endParaRPr b="0" lang="en-US" sz="22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205964"/>
                </a:solidFill>
                <a:latin typeface="Arial"/>
              </a:rPr>
              <a:t>All of these individuals are paid and trained. </a:t>
            </a:r>
            <a:endParaRPr b="0" lang="en-US" sz="22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48" name="Picture 3" descr="Checklist_Good-2.jpg"/>
          <p:cNvPicPr/>
          <p:nvPr/>
        </p:nvPicPr>
        <p:blipFill>
          <a:blip r:embed="rId1"/>
          <a:stretch/>
        </p:blipFill>
        <p:spPr>
          <a:xfrm>
            <a:off x="1617840" y="1084320"/>
            <a:ext cx="1596960" cy="251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hecking-NHS.jpg"/>
          <p:cNvPicPr/>
          <p:nvPr/>
        </p:nvPicPr>
        <p:blipFill>
          <a:blip r:embed="rId2"/>
          <a:stretch/>
        </p:blipFill>
        <p:spPr>
          <a:xfrm>
            <a:off x="1279440" y="3772080"/>
            <a:ext cx="249408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05964"/>
                </a:solidFill>
                <a:latin typeface="Arial"/>
              </a:rPr>
              <a:t>Each review is made up of: 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05964"/>
                </a:solidFill>
                <a:latin typeface="Arial"/>
              </a:rPr>
              <a:t>investigation of patient experience 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05964"/>
                </a:solidFill>
                <a:latin typeface="Arial"/>
              </a:rPr>
              <a:t>the development of best practice. 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05964"/>
                </a:solidFill>
                <a:latin typeface="Arial"/>
              </a:rPr>
              <a:t>A range of tools are used in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205964"/>
                </a:solidFill>
                <a:latin typeface="Arial"/>
              </a:rPr>
              <a:t>each review to gather patient experience: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05964"/>
                </a:solidFill>
                <a:latin typeface="Arial"/>
              </a:rPr>
              <a:t>spending time with patients, getting to know them and asking them a series of questions about their experiences; with permission telling their story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52" name="Picture 3" descr="Look_close1.jpg"/>
          <p:cNvPicPr/>
          <p:nvPr/>
        </p:nvPicPr>
        <p:blipFill>
          <a:blip r:embed="rId1"/>
          <a:stretch/>
        </p:blipFill>
        <p:spPr>
          <a:xfrm>
            <a:off x="1373040" y="2044800"/>
            <a:ext cx="2381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05964"/>
                </a:solidFill>
                <a:latin typeface="Arial"/>
              </a:rPr>
              <a:t>meeting with the patient’s family to explore their experiences and views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05964"/>
                </a:solidFill>
                <a:latin typeface="Arial"/>
              </a:rPr>
              <a:t>interviewing staff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05964"/>
                </a:solidFill>
                <a:latin typeface="Arial"/>
              </a:rPr>
              <a:t>observation of practice with a focus on staff and patient interaction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05964"/>
                </a:solidFill>
                <a:latin typeface="Arial"/>
              </a:rPr>
              <a:t>checking activity plans, communication passports and other documents for best practice in line with the Quality of Health Principles.  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55" name="Picture 3" descr="Health_Meeting-2.jpg"/>
          <p:cNvPicPr/>
          <p:nvPr/>
        </p:nvPicPr>
        <p:blipFill>
          <a:blip r:embed="rId1"/>
          <a:stretch/>
        </p:blipFill>
        <p:spPr>
          <a:xfrm>
            <a:off x="996840" y="2462040"/>
            <a:ext cx="3333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205964"/>
                </a:solidFill>
                <a:latin typeface="Arial"/>
              </a:rPr>
              <a:t>The reviews are measured against the Quality of Health Principles. 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205964"/>
                </a:solidFill>
                <a:latin typeface="Arial"/>
              </a:rPr>
              <a:t>These Principles have been written by people with learning disabilities and autism in partnership with people with physical disabilities and sensory impairments, older people and people with mental health needs. </a:t>
            </a: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922320" y="2244600"/>
            <a:ext cx="3583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The Principles reflect what these groups consider to be a good quality patient experience in relation to these areas: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accessible communication and information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choice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admission and discharge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staying in hospital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appointments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treatment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the way health professionals work with people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accessible environment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privacy, dignity and respect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205964"/>
                </a:solidFill>
                <a:latin typeface="Arial"/>
              </a:rPr>
              <a:t>medication and complaints. </a:t>
            </a: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922320" y="2244600"/>
            <a:ext cx="3583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05964"/>
                </a:solidFill>
                <a:latin typeface="Arial"/>
              </a:rPr>
              <a:t>The reviews cover:</a:t>
            </a: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05964"/>
                </a:solidFill>
                <a:latin typeface="Arial"/>
              </a:rPr>
              <a:t>the general hospital</a:t>
            </a: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05964"/>
                </a:solidFill>
                <a:latin typeface="Arial"/>
              </a:rPr>
              <a:t>GP practices</a:t>
            </a: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05964"/>
                </a:solidFill>
                <a:latin typeface="Arial"/>
              </a:rPr>
              <a:t>Dentists</a:t>
            </a: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05964"/>
                </a:solidFill>
                <a:latin typeface="Arial"/>
              </a:rPr>
              <a:t>pharmacists,</a:t>
            </a: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05964"/>
                </a:solidFill>
                <a:latin typeface="Arial"/>
              </a:rPr>
              <a:t>opticians </a:t>
            </a: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05964"/>
                </a:solidFill>
                <a:latin typeface="Arial"/>
              </a:rPr>
              <a:t>mainstream and specialist mental health services</a:t>
            </a: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05964"/>
                </a:solidFill>
                <a:latin typeface="Arial"/>
              </a:rPr>
              <a:t>We produce a report describing practice measured against the Principles and an action plan highlighting areas for improvement. </a:t>
            </a: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05964"/>
                </a:solidFill>
                <a:latin typeface="Arial"/>
              </a:rPr>
              <a:t>Although we focus on grassroots patient experience, we always get ‘buy in’ from a strategic level. This has enabled the reviews to achieve a range of positive outcomes which are changing both the practice and culture of health provision. </a:t>
            </a:r>
            <a:endParaRPr b="0" lang="en-US" sz="16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63" name="Picture 3" descr="Place_GP_Surgery.jpg"/>
          <p:cNvPicPr/>
          <p:nvPr/>
        </p:nvPicPr>
        <p:blipFill>
          <a:blip r:embed="rId1"/>
          <a:stretch/>
        </p:blipFill>
        <p:spPr>
          <a:xfrm>
            <a:off x="1844640" y="985680"/>
            <a:ext cx="2044800" cy="237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Place_Hospital.jpg"/>
          <p:cNvPicPr/>
          <p:nvPr/>
        </p:nvPicPr>
        <p:blipFill>
          <a:blip r:embed="rId2"/>
          <a:stretch/>
        </p:blipFill>
        <p:spPr>
          <a:xfrm>
            <a:off x="1822320" y="3728880"/>
            <a:ext cx="20671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outcom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205964"/>
                </a:solidFill>
                <a:latin typeface="Arial"/>
              </a:rPr>
              <a:t>As a result of a Quality of Health review of a General Hospital, a Learning Disability Liaison Nurse was appointed. The appointment of this nurse has led to improvements in practice which include: </a:t>
            </a:r>
            <a:endParaRPr b="0" lang="en-US" sz="17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205964"/>
                </a:solidFill>
                <a:latin typeface="Arial"/>
              </a:rPr>
              <a:t>Patients and carers reporting a better experience of being in hospital.</a:t>
            </a:r>
            <a:endParaRPr b="0" lang="en-US" sz="17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205964"/>
                </a:solidFill>
                <a:latin typeface="Arial"/>
              </a:rPr>
              <a:t>Care providers reporting better experiences for people with learning disabilities whilst staying in hospital. </a:t>
            </a:r>
            <a:endParaRPr b="0" lang="en-US" sz="1700" spc="-1" strike="noStrike">
              <a:solidFill>
                <a:srgbClr val="20596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205964"/>
                </a:solidFill>
                <a:latin typeface="Arial"/>
              </a:rPr>
              <a:t>Staff at the General Hospital reporting that they have more awareness of learning disabilities and feel that patients are much better supported. </a:t>
            </a:r>
            <a:endParaRPr b="0" lang="en-US" sz="17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67" name="Picture 3" descr="Place_Hospital.jpg"/>
          <p:cNvPicPr/>
          <p:nvPr/>
        </p:nvPicPr>
        <p:blipFill>
          <a:blip r:embed="rId1"/>
          <a:stretch/>
        </p:blipFill>
        <p:spPr>
          <a:xfrm>
            <a:off x="1459080" y="2120760"/>
            <a:ext cx="2430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605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205964"/>
                </a:solidFill>
                <a:latin typeface="Arial"/>
              </a:rPr>
              <a:t>Improved practice in Accident and Emergency for patients with learning disabilities. </a:t>
            </a:r>
            <a:endParaRPr b="0" lang="en-US" sz="17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205964"/>
                </a:solidFill>
                <a:latin typeface="Arial"/>
              </a:rPr>
              <a:t>A range of reasonable adjustments being put into place for individuals resulting in an improved patient experience. </a:t>
            </a:r>
            <a:endParaRPr b="0" lang="en-US" sz="17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205964"/>
                </a:solidFill>
                <a:latin typeface="Arial"/>
              </a:rPr>
              <a:t>A learning disability awareness training programme implemented across all staff in the general hospital. </a:t>
            </a:r>
            <a:endParaRPr b="0" lang="en-US" sz="17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205964"/>
                </a:solidFill>
                <a:latin typeface="Arial"/>
              </a:rPr>
              <a:t>Development of easy read information.</a:t>
            </a:r>
            <a:endParaRPr b="0" lang="en-US" sz="1700" spc="-1" strike="noStrike">
              <a:solidFill>
                <a:srgbClr val="2059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20596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205964"/>
                </a:solidFill>
                <a:latin typeface="Arial"/>
              </a:rPr>
              <a:t>Development of a ‘flagging system’ to ensure staff are aware of someone with a learning disability being admitted.</a:t>
            </a:r>
            <a:endParaRPr b="0" lang="en-US" sz="1700" spc="-1" strike="noStrike">
              <a:solidFill>
                <a:srgbClr val="205964"/>
              </a:solidFill>
              <a:latin typeface="Arial"/>
            </a:endParaRPr>
          </a:p>
        </p:txBody>
      </p:sp>
      <p:pic>
        <p:nvPicPr>
          <p:cNvPr id="70" name="Picture 4" descr="NHS_Trainers.jpg"/>
          <p:cNvPicPr/>
          <p:nvPr/>
        </p:nvPicPr>
        <p:blipFill>
          <a:blip r:embed="rId1"/>
          <a:stretch/>
        </p:blipFill>
        <p:spPr>
          <a:xfrm>
            <a:off x="1544760" y="1600200"/>
            <a:ext cx="2344680" cy="184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Leaflet.jpg"/>
          <p:cNvPicPr/>
          <p:nvPr/>
        </p:nvPicPr>
        <p:blipFill>
          <a:blip r:embed="rId2"/>
          <a:stretch/>
        </p:blipFill>
        <p:spPr>
          <a:xfrm>
            <a:off x="2014560" y="3578400"/>
            <a:ext cx="147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4:28:13Z</dcterms:created>
  <dc:creator>Subtan Mahmood</dc:creator>
  <dc:description/>
  <dc:language>en-US</dc:language>
  <cp:lastModifiedBy>DH User</cp:lastModifiedBy>
  <dcterms:modified xsi:type="dcterms:W3CDTF">2013-03-05T19:41:09Z</dcterms:modified>
  <cp:revision>22</cp:revision>
  <dc:subject/>
  <dc:title>PowerPoint Presentation</dc:title>
</cp:coreProperties>
</file>